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127B-4256-405D-86C7-934865F47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83A0-DDDF-499A-BF2A-818B2637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EE0C-271B-4B01-A7DF-5BF580C5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0FC2-4AEA-4BB2-83E8-AEFDA5510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E676-258D-4E23-8676-8A7DA3865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3AF2A-028C-4E73-BB17-8C6D5D2A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72C8-3E45-418C-B886-BCEE6422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49CA-B552-4317-949E-D06265B9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164C-65CA-4AB5-A6BA-097C7D51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1A06B-04D5-4C5C-B44B-83FB4C67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5E2C-06BE-4AC5-9741-080A8CB2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A734-A10B-4231-BC2A-678EECE5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5FFC-D488-43C7-9DD8-CF04C840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AAC3F-4672-4940-851E-23E35D83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CCAA1-DBF7-4B8B-8EC5-8B1475A0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B6555-7C99-40D2-9B85-EC437DADE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A037-95FC-474E-ABDB-B5E8D6080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99931-00E6-4CD2-8F70-96AF3EBA2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34C58-6502-4220-8AE3-13391D2A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F6D4D-FD40-49EE-9E2B-84E64476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943CB-65E7-4FE6-8C50-B0137AF8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5BD9B-3D14-436F-8CE0-7FDCB9EA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C5D3-AD8D-4071-B7E0-D6E0A19B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67B86-425F-4BE5-A2DD-58003302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F4536-8BB4-4D1B-BFBA-3BCFD893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94D06-F30B-420D-9FDD-4C3DAB2E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86517-33C9-4214-92E6-01C25FBD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838BA-02CE-40D7-96F4-72B0EA68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81858-1F74-47B9-B3A1-A4966C652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69D15-C453-4640-A019-8432CA253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8608F-CA88-4229-9E8A-DA815374F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24257-A5C6-4500-B29B-AF1ECD0A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D588D-9BED-4A87-9E01-23F6F2B7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6066-6C7C-4F41-BFA4-9377AD0D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AD87D-3388-4511-BC37-A62608F9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EF169-D19A-44CE-8070-19C34019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F5F1A-4A83-41E7-9488-99EAD7BD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AF2AC-5B7C-4BA5-B620-32293AF0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53461-ED27-4B77-92E4-E7B6E2A2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B6C0A-2123-493F-9269-B5B4900D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AF26A-6778-4861-AEA5-0AABC16A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983A7-E420-4814-9782-629AEE5F2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7DDDF-822B-4734-866F-2D9853663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E731-0F07-482D-910D-6FF838F4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CEF6-115B-4F66-8AC4-8CCB27D4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374F-B6F2-496A-9B70-BECB86AF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2149-1E05-4A78-BFF3-59890596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B7A3-1C3A-4F9B-B135-C84751EE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026C-7059-4582-A55B-C70B86E145B2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79F0-2F91-4F69-8798-2F15F582D1FC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4282-74F9-4D3B-A9A3-ADF0E7DEC0D7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6D37-57B9-44BE-B30C-70A99FCAA603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159984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Trebuchet MS"/>
              </a:rPr>
              <a:t>ГРАЖДАНСКИЙ БЮДЖЕТ </a:t>
            </a:r>
            <a:br>
              <a:rPr sz="5400"/>
            </a:br>
            <a:r>
              <a:rPr b="1" lang="ru-RU" sz="5400" spc="-1" strike="noStrike">
                <a:solidFill>
                  <a:srgbClr val="0000cc"/>
                </a:solidFill>
                <a:latin typeface="Trebuchet MS"/>
              </a:rPr>
              <a:t>на 2020–2022 годы</a:t>
            </a:r>
            <a:br>
              <a:rPr sz="5400"/>
            </a:br>
            <a:endParaRPr b="1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Рисунок 6" descr="logoМЭРТ.gif"/>
          <p:cNvPicPr/>
          <p:nvPr/>
        </p:nvPicPr>
        <p:blipFill>
          <a:blip r:embed="rId1"/>
          <a:stretch/>
        </p:blipFill>
        <p:spPr>
          <a:xfrm>
            <a:off x="7315200" y="298440"/>
            <a:ext cx="1609560" cy="10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омер слайда 5"/>
          <p:cNvSpPr/>
          <p:nvPr/>
        </p:nvSpPr>
        <p:spPr>
          <a:xfrm>
            <a:off x="4191120" y="6605640"/>
            <a:ext cx="1828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AD40-325E-4A6E-A1EF-45FCB501BFE7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448080" y="123840"/>
            <a:ext cx="5315040" cy="110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Trebuchet MS"/>
              </a:rPr>
              <a:t>Расходы на реализацию мероприятий</a:t>
            </a:r>
            <a:br>
              <a:rPr sz="2200"/>
            </a:br>
            <a:r>
              <a:rPr b="1" lang="ru-RU" sz="2200" spc="-1" strike="noStrike">
                <a:solidFill>
                  <a:srgbClr val="0033cc"/>
                </a:solidFill>
                <a:latin typeface="Trebuchet MS"/>
              </a:rPr>
              <a:t> в сфере здравоохранения</a:t>
            </a:r>
            <a:endParaRPr b="1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28600" y="1676520"/>
          <a:ext cx="8763120" cy="3886200"/>
        </p:xfrm>
        <a:graphic>
          <a:graphicData uri="http://schemas.openxmlformats.org/drawingml/2006/table">
            <a:tbl>
              <a:tblPr/>
              <a:tblGrid>
                <a:gridCol w="5114880"/>
                <a:gridCol w="1328760"/>
                <a:gridCol w="1187640"/>
                <a:gridCol w="1131840"/>
              </a:tblGrid>
              <a:tr h="264960">
                <a:tc gridSpan="4"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33cc"/>
                          </a:solidFill>
                          <a:latin typeface="Trebuchet MS"/>
                        </a:rPr>
                        <a:t>млн. тенг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6920">
                <a:tc row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0 год  пл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гноз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твержде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2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сходы на здравоохранение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с аппаратом управле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4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4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храна здоровья нас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8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ециализированная медицинская помощ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ругие виды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чие услуги в области здравоохра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7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8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9" name="Picture 76" descr=""/>
          <p:cNvPicPr/>
          <p:nvPr/>
        </p:nvPicPr>
        <p:blipFill>
          <a:blip r:embed="rId1"/>
          <a:stretch/>
        </p:blipFill>
        <p:spPr>
          <a:xfrm>
            <a:off x="0" y="0"/>
            <a:ext cx="1530360" cy="13716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7" descr=""/>
          <p:cNvPicPr/>
          <p:nvPr/>
        </p:nvPicPr>
        <p:blipFill>
          <a:blip r:embed="rId2"/>
          <a:stretch/>
        </p:blipFill>
        <p:spPr>
          <a:xfrm>
            <a:off x="1914480" y="28440"/>
            <a:ext cx="1523880" cy="13431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6"/>
          <p:cNvSpPr/>
          <p:nvPr/>
        </p:nvSpPr>
        <p:spPr>
          <a:xfrm>
            <a:off x="762120" y="6324480"/>
            <a:ext cx="7696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мечание: прогноз на 2021-2022 годы – без учета целевых трансфертов из республиканского бюдже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19080" y="838080"/>
          <a:ext cx="8839080" cy="5280120"/>
        </p:xfrm>
        <a:graphic>
          <a:graphicData uri="http://schemas.openxmlformats.org/drawingml/2006/table">
            <a:tbl>
              <a:tblPr/>
              <a:tblGrid>
                <a:gridCol w="561960"/>
                <a:gridCol w="561960"/>
                <a:gridCol w="3479760"/>
                <a:gridCol w="1505160"/>
                <a:gridCol w="1365120"/>
                <a:gridCol w="1365120"/>
              </a:tblGrid>
              <a:tr h="22860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0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1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2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правление здравоохранения обла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440 88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001 36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148 86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слуги по реализации государственной политики на местном уровне в области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243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500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22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слуги по охране материнства и дет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672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59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340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паганда здорового образа жи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86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ализация мероприятий по профилактике и борьбе со СПИД в Республике Казахста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688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2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6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еспечение граждан бесплатным или льготным проездом за пределы населенного пункта на леч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4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4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8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формационно-аналитические услуги в области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68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92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1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ентрализованный закуп и хранение вакцин и других медицинских иммунобиологических препаратов для проведения иммунопрофилактики насе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903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2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181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ластные базы спецмедснабж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23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34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84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питальные расходы медицинских организаций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830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7243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404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полнительное обеспечение гарантированного объема бесплатной медицинской помощи по решению местных представительных органов облас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754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257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7798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ведение медицинской организацией мероприятий, снижающих половое влечение, осуществляемые на основании решения су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готовка специалистов в организациях технического и профессионального, послесреднего 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941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953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060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3" name="Заголовок 2" descr=""/>
          <p:cNvPicPr/>
          <p:nvPr/>
        </p:nvPicPr>
        <p:blipFill>
          <a:blip r:embed="rId1"/>
          <a:stretch/>
        </p:blipFill>
        <p:spPr>
          <a:xfrm>
            <a:off x="384120" y="158760"/>
            <a:ext cx="8326440" cy="86508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1"/>
          <p:cNvSpPr/>
          <p:nvPr/>
        </p:nvSpPr>
        <p:spPr>
          <a:xfrm>
            <a:off x="457200" y="6100920"/>
            <a:ext cx="830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мечание: прогноз на 2021-2022 годы – без учета целевых трансфертов из республиканского бюдже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76320" y="838080"/>
          <a:ext cx="8781840" cy="2333880"/>
        </p:xfrm>
        <a:graphic>
          <a:graphicData uri="http://schemas.openxmlformats.org/drawingml/2006/table">
            <a:tbl>
              <a:tblPr/>
              <a:tblGrid>
                <a:gridCol w="504720"/>
                <a:gridCol w="561960"/>
                <a:gridCol w="3479760"/>
                <a:gridCol w="1505160"/>
                <a:gridCol w="1365120"/>
                <a:gridCol w="1365120"/>
              </a:tblGrid>
              <a:tr h="22860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0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1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2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озмещение лизинговых платежей по санитарному транспорту, приобретенных на условиях финансового лизинг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958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готовка специалистов с высшим, послевузовским образованием и оказание социальной поддержки обучающимс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541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193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770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полнение государственных обязательств по проектам государственно-частного партнер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9802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411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56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6" name="Заголовок 2" descr=""/>
          <p:cNvPicPr/>
          <p:nvPr/>
        </p:nvPicPr>
        <p:blipFill>
          <a:blip r:embed="rId1"/>
          <a:stretch/>
        </p:blipFill>
        <p:spPr>
          <a:xfrm>
            <a:off x="384120" y="195120"/>
            <a:ext cx="8229600" cy="64620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1"/>
          <p:cNvSpPr/>
          <p:nvPr/>
        </p:nvSpPr>
        <p:spPr>
          <a:xfrm>
            <a:off x="457200" y="6100920"/>
            <a:ext cx="830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мечание: прогноз на 2020-2021 годы – без учета целевых трансфертов из республиканского бюдже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Таблица 3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68680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ьфия Ф. Садыкова</dc:creator>
  <dc:description/>
  <dc:language>en-US</dc:language>
  <cp:lastModifiedBy>Kapkenova</cp:lastModifiedBy>
  <cp:lastPrinted>2020-01-10T05:12:58Z</cp:lastPrinted>
  <dcterms:modified xsi:type="dcterms:W3CDTF">2020-01-10T05:13:04Z</dcterms:modified>
  <cp:revision>7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